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111-137C-46A5-A585-D8B3291F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BB5-3C9A-4F79-9442-1A2360B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EE9-B994-40CB-A506-AE550110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A43-4011-42C4-8F8C-DC7AF1B1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5F4-A8D5-48F1-B34D-BE1CA54E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FE21-BB60-4D5C-9289-FCD4085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8748-2DD5-48EA-A648-F980C16E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4943-7E94-4256-9ED2-6DC17131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6EC-1B73-47CF-8AF3-9B03DF1F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D604-A40E-4733-872C-146A5CFD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B3D6-BF11-4E73-AC11-DA02205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F11-3482-403F-9C26-6FC4FA7C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385-9256-48A2-921D-7AA1681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4D71-5A1A-4338-8452-CC2D1A8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D539-6282-484A-A4E0-9A6D5B0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A697-49BF-473F-9365-C16D6AA4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6138-7960-4B8E-82DA-2CEF9A92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C7C-D9B1-48C7-8408-5ECBD7A8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F9F-C5CB-4C96-9B8F-14C0C15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4A1-0187-4006-AD94-5B4FED93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21F-F6A2-406B-B222-18F71C8C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1EA-581F-4F4C-BCD5-8B23C38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4DA-CA4B-47CA-A4C1-A45DB2C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230-BED0-4EE7-8ECD-40E5FB3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FBCF-76FB-4666-A420-BE55306131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5459-EFF4-4FE6-A3E6-B28D4073A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освещ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необходимой освещенности строительной площадки и участков производства работ, подбора, расстановки и расчета необходимого количества источников света и потребной для их питания мощ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 и расчет осветительных установок производится для рабочего (общего равномерного, общего локализованного или местного), аварийного, эвакуационного и охранного освеще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расчета временного освещения на строительной площадк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взаимосвязанные технологические справочники участков строительных площадок и работ, параметров осветительных  установок для разной нормируемой освещенности, типы прожекторов и ламп, минимально допустимая  высота установки прожекторов/светильников и т.д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9880" y="4929120"/>
            <a:ext cx="758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участки стройплощадки (производства работ) и ввести для каждого из них необходимые показатели по требуемым типам освещ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2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0,5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локализованное (локальное) или мест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варий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эвакуацион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хранное осв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13040" y="809640"/>
            <a:ext cx="58467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щее равномер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6240" y="545472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общего равномерного освещения строительной площадки при нормируемой освещенности (2 или 0,5 лк) необходимо ввести список участков с нужным типом освещения. По каждому из участков задаются следующие показатели: нормируемая освещенность,  ширина и длина участка,  параметры осветительных установо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73320" y="1373040"/>
            <a:ext cx="4919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окальное, аварийное, эвакуационное и охран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7624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локального, аварийного, эвакуационного или охранного освещения необходимо на соответствующей вкладке ввести список участков с нужным типом освещения. По каждому из участков задаются следующие показатели: тип участка, длина и ширина участка, параметры осветительных установок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367000" y="1638360"/>
            <a:ext cx="494496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освещения для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370720" y="0"/>
            <a:ext cx="77328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085840" y="1276200"/>
            <a:ext cx="5513400" cy="425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76240" y="568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документ будет выведена следующая информация: исходные данные, рассчитанные значения, формулы, использованные для расчетов, таблицы с нормативно-справочной информацией,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8:14Z</dcterms:modified>
  <cp:revision>288</cp:revision>
  <dc:subject/>
  <dc:title>Слайд 1</dc:title>
</cp:coreProperties>
</file>